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3B21E-1A6A-4C66-8BE0-979621EA97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C6BC4-5187-48A6-B0E1-36084D5613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B3EBD-5495-4564-BEB7-8B9C9E8AC2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simple.wikipedia.org/wiki/File:ATP.jpe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F3312-90CF-4DA5-9D2A-441E287837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mage from: http://www.phschool.com/science/biology_place/biocoach/transcription/overview.html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EF026-E7CF-44E1-B351-1C0BA0C287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itowler.com/taxonomy/term/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7B26A-67AE-4793-9D70-EFE0B9407C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0E4E4-5C2C-42FA-B420-4F727737AE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mage from: http://www.biopoliticaltimes.org/img/original/DNA5.jpg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51D31-0A1E-44AC-B2DD-C410099D43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g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mun.ca/biology/scarr/Ribose_sugar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63BDB-0BD3-4424-995A-A729415156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itrogenous bases (purines &amp; pyrimidin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biology.arizona.edu/biochemistry/problem_sets/large_molecules/06t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EEE87-C966-4A97-A43D-C7340AEAD7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proprofs.com/flashcards/cardshowall.php?title=exam-5-re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702EA-E5C3-4107-98DE-CC833E7775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mage from: http://www.bio.miami.edu/dana/250/250SS10_7.html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E6B74-8F73-4AD2-9F3A-C9117F988E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and R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beltina.org/health-dictionary/rna-ribonucleic-acid-definition-function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3B4F5-E84C-45B4-895D-AE4F60835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531EE-37A8-4331-844D-09D853977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19385-B51D-4911-A08E-5897E9BAE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D6E2C-549B-4988-AD4A-FAF2CBCEA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2406A-55E8-428D-9413-8488037AF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CBC5D-84DA-4449-A5F4-2D24CD7C6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2D815-BC4D-41E3-846D-F4162F3BB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3BACD-DF25-41E5-9FA6-EB2059ECE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65137-26F1-457D-B5BC-815DD65A3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2B79D-CC1C-4305-AECF-3574F3199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ADE50-C6AE-4098-841C-B51293669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C55BD-7CDC-42F3-9411-2E7346FA6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3D9FD-BBC8-4915-895A-C9D9A090C7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BI4U - Biochemist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romolecules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cleic Ac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cleoside Triphosph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enosine triphosphate (ATP) is used to power reactions in 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6" descr="ATP"/>
          <p:cNvPicPr/>
          <p:nvPr/>
        </p:nvPicPr>
        <p:blipFill>
          <a:blip r:embed="rId1"/>
          <a:stretch/>
        </p:blipFill>
        <p:spPr>
          <a:xfrm>
            <a:off x="4648320" y="2610000"/>
            <a:ext cx="380988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tein Synthe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centdog"/>
          <p:cNvPicPr/>
          <p:nvPr/>
        </p:nvPicPr>
        <p:blipFill>
          <a:blip r:embed="rId1"/>
          <a:stretch/>
        </p:blipFill>
        <p:spPr>
          <a:xfrm>
            <a:off x="3086280" y="1981080"/>
            <a:ext cx="29700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cleic Aci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cleic Acid Fun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oxyribonucleic acid (DNA) and ribonucleic acid (RN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nutrients (like proteins, carbs, lipid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sential for all living th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tein assembly &amp; hereditary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cleic Acid 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cleic acids are polymers of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ucleoti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cleotid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g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osphate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trogenous 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nucleotide"/>
          <p:cNvPicPr/>
          <p:nvPr/>
        </p:nvPicPr>
        <p:blipFill>
          <a:blip r:embed="rId1"/>
          <a:stretch/>
        </p:blipFill>
        <p:spPr>
          <a:xfrm>
            <a:off x="4648320" y="2533680"/>
            <a:ext cx="3809880" cy="30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oxyribose &amp; Ribo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8" descr="Fg10_09b_revised"/>
          <p:cNvPicPr/>
          <p:nvPr/>
        </p:nvPicPr>
        <p:blipFill>
          <a:blip r:embed="rId1"/>
          <a:stretch/>
        </p:blipFill>
        <p:spPr>
          <a:xfrm>
            <a:off x="1484280" y="1981080"/>
            <a:ext cx="61740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itrogenous Ba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2" descr="06ta"/>
          <p:cNvPicPr/>
          <p:nvPr/>
        </p:nvPicPr>
        <p:blipFill>
          <a:blip r:embed="rId1"/>
          <a:stretch/>
        </p:blipFill>
        <p:spPr>
          <a:xfrm>
            <a:off x="685800" y="2882880"/>
            <a:ext cx="7772400" cy="23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se Pai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q4570257"/>
          <p:cNvPicPr/>
          <p:nvPr/>
        </p:nvPicPr>
        <p:blipFill>
          <a:blip r:embed="rId1"/>
          <a:stretch/>
        </p:blipFill>
        <p:spPr>
          <a:xfrm>
            <a:off x="1946160" y="1981080"/>
            <a:ext cx="524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osphodiester Bo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phosphodiester"/>
          <p:cNvPicPr/>
          <p:nvPr/>
        </p:nvPicPr>
        <p:blipFill>
          <a:blip r:embed="rId1"/>
          <a:stretch/>
        </p:blipFill>
        <p:spPr>
          <a:xfrm>
            <a:off x="1827360" y="1981080"/>
            <a:ext cx="54892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8" descr="rna"/>
          <p:cNvPicPr/>
          <p:nvPr/>
        </p:nvPicPr>
        <p:blipFill>
          <a:blip r:embed="rId1"/>
          <a:stretch/>
        </p:blipFill>
        <p:spPr>
          <a:xfrm>
            <a:off x="1870200" y="609480"/>
            <a:ext cx="5403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1T10:27:25Z</dcterms:created>
  <dc:creator>rubina khan</dc:creator>
  <dc:description/>
  <dc:language>en-US</dc:language>
  <cp:lastModifiedBy>rubina khan</cp:lastModifiedBy>
  <dcterms:modified xsi:type="dcterms:W3CDTF">2017-02-16T11:15:25Z</dcterms:modified>
  <cp:revision>192</cp:revision>
  <dc:subject/>
  <dc:title>Organic Chemistry</dc:title>
</cp:coreProperties>
</file>